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393-6AEE-46E8-9494-8DF8E729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748-6AA2-42C7-86E3-50FE662A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BE6F-F669-4D94-BCFC-D607E68C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28E-792C-431E-9EEB-A7A14A85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822A-9116-40C7-915D-495211C8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DDD4-23C2-47C2-BFFB-C758D2B8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9528-BCA2-4202-8D31-7F98D314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3920-2F02-4F1A-A7C7-B6BD7E79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B865-6CC6-414E-AACB-6290BF83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3CE8-A623-468E-B97B-80B7FCF0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1E7D-6D8A-44D9-A0AF-E5826495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748-EC24-42A5-88ED-68656D17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AAB1-ADA9-4959-8DF5-1820831E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4598-A847-48EB-A089-A91FC405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5064-CC5B-40F6-B05B-8E00AFAB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B61D-9C45-4CD7-B104-EFCC52D6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7C92-2AF0-445A-876E-D1EBD130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06B-1A14-478D-B548-951241B8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46C4-487C-405E-9C24-63577F23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997-6700-45A6-A2CD-D516C4F4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1F7-69A6-48DC-96EF-43943CB1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F77-2B5A-4AE6-BF13-08F2C907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D08-8C22-48FB-8976-5FA901AA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21A-7A56-4367-8A49-A1E55DCC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0491-8964-4BB1-9056-B0AA86F19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B433-3C4D-407A-A24A-6CB79BB67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s.wikipedia.org/wiki/Reyes_Cat&#243;licos" TargetMode="External"/><Relationship Id="rId3" Type="http://schemas.openxmlformats.org/officeDocument/2006/relationships/hyperlink" Target="http://es.wikipedia.org/wiki/Carlos_I_de_Espa&#241;a" TargetMode="External"/><Relationship Id="rId4" Type="http://schemas.openxmlformats.org/officeDocument/2006/relationships/hyperlink" Target="http://es.wikipedia.org/wiki/Felipe_II_de_Espa&#241;a" TargetMode="External"/><Relationship Id="rId5" Type="http://schemas.openxmlformats.org/officeDocument/2006/relationships/hyperlink" Target="http://es.wikipedia.org/wiki/Imagen:CharlesVtit.jpg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upload.wikimedia.org/wikipedia/commons/2/26/King_PhilipII_of_Spain.jpg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s.wikipedia.org/wiki/Carlos_I_de_Espa&#241;a" TargetMode="External"/><Relationship Id="rId3" Type="http://schemas.openxmlformats.org/officeDocument/2006/relationships/hyperlink" Target="http://es.wikipedia.org/wiki/Felipe_II_de_Espa&#241;a" TargetMode="External"/><Relationship Id="rId4" Type="http://schemas.openxmlformats.org/officeDocument/2006/relationships/hyperlink" Target="http://es.wikipedia.org/wiki/Imagen:CharlesVtit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upload.wikimedia.org/wikipedia/commons/2/26/King_PhilipII_of_Spain.jpg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s.wikipedia.org/wiki/Literatura" TargetMode="External"/><Relationship Id="rId3" Type="http://schemas.openxmlformats.org/officeDocument/2006/relationships/hyperlink" Target="http://es.wikipedia.org/wiki/Artes_pl&#225;sticas" TargetMode="External"/><Relationship Id="rId4" Type="http://schemas.openxmlformats.org/officeDocument/2006/relationships/hyperlink" Target="http://es.wikipedia.org/wiki/M&#250;sica" TargetMode="External"/><Relationship Id="rId5" Type="http://schemas.openxmlformats.org/officeDocument/2006/relationships/hyperlink" Target="http://es.wikipedia.org/wiki/Universidad_de_Salamanca" TargetMode="External"/><Relationship Id="rId6" Type="http://schemas.openxmlformats.org/officeDocument/2006/relationships/hyperlink" Target="http://es.wikipedia.org/wiki/Universidad_Complutense" TargetMode="External"/><Relationship Id="rId7" Type="http://schemas.openxmlformats.org/officeDocument/2006/relationships/hyperlink" Target="http://es.wikipedia.org/wiki/Universidad_de_Sevilla" TargetMode="External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0/0c/Garcilaso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Siglo de O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Españ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784872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5334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guel de Cervant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Imagen:LopedeVega.jpg"/>
          <p:cNvPicPr/>
          <p:nvPr/>
        </p:nvPicPr>
        <p:blipFill>
          <a:blip r:embed="rId2"/>
          <a:stretch/>
        </p:blipFill>
        <p:spPr>
          <a:xfrm>
            <a:off x="5791320" y="2286000"/>
            <a:ext cx="2355840" cy="3352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Imagen:Cervates jauregui.jpg"/>
          <p:cNvPicPr/>
          <p:nvPr/>
        </p:nvPicPr>
        <p:blipFill>
          <a:blip r:embed="rId3"/>
          <a:stretch/>
        </p:blipFill>
        <p:spPr>
          <a:xfrm>
            <a:off x="1066680" y="1219320"/>
            <a:ext cx="2847960" cy="3219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2520" y="5334120"/>
            <a:ext cx="5181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pe de Ve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5334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guel de Cervant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Imagen:LopedeVega.jpg"/>
          <p:cNvPicPr/>
          <p:nvPr/>
        </p:nvPicPr>
        <p:blipFill>
          <a:blip r:embed="rId2"/>
          <a:stretch/>
        </p:blipFill>
        <p:spPr>
          <a:xfrm>
            <a:off x="6515280" y="3505320"/>
            <a:ext cx="1714320" cy="2438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Imagen:Cervates jauregui.jpg"/>
          <p:cNvPicPr/>
          <p:nvPr/>
        </p:nvPicPr>
        <p:blipFill>
          <a:blip r:embed="rId3"/>
          <a:stretch/>
        </p:blipFill>
        <p:spPr>
          <a:xfrm>
            <a:off x="6324480" y="228600"/>
            <a:ext cx="2089440" cy="2362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880" y="3429000"/>
            <a:ext cx="5410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pe de Ve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617220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cribe la nov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Don Quijote de La Mancha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16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738680"/>
            <a:ext cx="56390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cribe el drama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ente Oveju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16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561960"/>
            <a:ext cx="9144000" cy="599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l Renaci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Renacimiento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e inici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con la unificación de España por l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Reyes Católic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Abarca los reinad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Carlos I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Felipe II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4343400"/>
            <a:ext cx="159732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Imagen:King PhilipII of Spain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0" y="434340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Os Reis Católicos, Fernando de Aragon e Isabel de Castela (foto: revista 'Hola!' especial, Madrid, 1992)"/>
          <p:cNvPicPr/>
          <p:nvPr/>
        </p:nvPicPr>
        <p:blipFill>
          <a:blip r:embed="rId9"/>
          <a:stretch/>
        </p:blipFill>
        <p:spPr>
          <a:xfrm>
            <a:off x="7086600" y="2133720"/>
            <a:ext cx="1828800" cy="1268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l Renaci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inado de </a:t>
            </a: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Carlos I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reciben nuevas ideas y se imita el Renacimiento italia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inado de </a:t>
            </a: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Felipe II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Renacimiento español se cierra en sí mismo y se acentúan los aspectos religios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1828800"/>
            <a:ext cx="1663560" cy="2143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Imagen:King PhilipII of Spai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4114800"/>
            <a:ext cx="188604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glo de O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ue un </a:t>
            </a:r>
            <a:r>
              <a:rPr b="1" lang="es-ES" sz="4000" spc="-1" strike="noStrike">
                <a:solidFill>
                  <a:srgbClr val="ffcc00"/>
                </a:solidFill>
                <a:latin typeface="Tahoma"/>
              </a:rPr>
              <a:t>periodo de gran florecimiento político y económico en Españ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que alcanzó un gran renombre y prestigio internacion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urante esta época todo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lo «nuevo» en Europa venía de Españ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y era imitado con gusto y apl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553080" y="642960"/>
            <a:ext cx="25909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pectos Polític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ción de un Estado moder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Unidad dinás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lítica expansionista de los RRCC (Reyes Católic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entralización de po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paña mantiene la hegemonía europ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pectos Religios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forma Lute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Contrarreforma (Concilio de Trent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1492 Anexión de Granada y expulsión de los judí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ciedad teocéntrica (la vida perfecta entre la naturlida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ciedad antropocéntrica (dominar e futur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Aspectos Cultur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fluencia del arte italiano (Dante, Petrarca, Bocac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mportancia de los mitos grecolatin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uevo concepto de am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pectos Filosófic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cepticismo = actitud critica ante la re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picureismo: goce moderado de la vi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toicismo: exalta el dominio de las pasiones y elogia la serenidad espirit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latonismo: exalta la belleza de los seres naturales y de la naturaleza a los que considera un reflejo de la belleza divina / absolu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19360" y="152280"/>
            <a:ext cx="57052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ícaros comiendo” de Muri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pectos Ideológic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humanismo (los estudi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surgir de la cultural greco-lat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ópico del Carpe Di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Siglo de O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desarrollan en especi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literatur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</a:t>
            </a: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artes plástic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músic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arquitectur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s centros de mayor importancia cultural son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s Universidades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Salamanc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Alcalá de Henar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Sevil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Ideología del Renaci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La valoración de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mundo grecolatin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en el que se busca una nueva escala de valores para el individu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El hombre es el centro del univers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(antropocentrismo), capaz de dominar el mundo y crear su propio destin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antepone </a:t>
            </a: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la razón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al sentimiento y prevalece el equilibrio, la mesura y la armonía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Ideología del Renaci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nuevo ide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del hombre es el cortesano, hábil como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poeta y guerrer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nuevo ideal de bellez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que describe el mundo no como es, sino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mo debería se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la naturaleza, la mujer, el amor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121360" y="1981080"/>
            <a:ext cx="309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arcilaso de la Veg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01-1536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cortesano </a:t>
            </a: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y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soldad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e la época del Emperad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19840" y="1143000"/>
            <a:ext cx="41241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8600" y="30477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ballero en las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a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ballero en las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let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Imagen:Garcilas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404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0" y="380880"/>
            <a:ext cx="5562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arcilaso de la Veg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La poesía renacentis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</a:t>
            </a: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la métrica utilizad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se adoptan versos (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ndecasílab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, estrofas (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lir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 y poemas (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onet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 procedentes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de Itali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ira = tipo de estrofa de cinco versos de la métrica española e italia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Temas</a:t>
            </a: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 renacentist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l amo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concebido desde el punto de vista plató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la naturalez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como algo idílico (bucolism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mitología pagana, de la que se reflejan historias de di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la belleza femenin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siguiendo siempre un mismo ideal clásic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Tópicos</a:t>
            </a: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 renacentistas tomados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del mundo clás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cc00"/>
                </a:solidFill>
                <a:latin typeface="Tahoma"/>
              </a:rPr>
              <a:t>Carpe diem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"atrapa el día" o "aprovecha el momento". Con él se aconseja el disfrute de la vida antes de la llegada de la vejez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cc00"/>
                </a:solidFill>
                <a:latin typeface="Tahoma"/>
              </a:rPr>
              <a:t>Locus amoenu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o descripción de una naturaleza perfecta e idíl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Lazarillo de Torme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(1554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énero literario: novela picares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relato es autobiográfic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narración sigue un orden cronológic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ironía y el diálogo son dos de los recursos más empleados para desarrollar el argumento y expresar la crítica en el libr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protagonista es un pícar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5238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32080" y="0"/>
            <a:ext cx="44798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l Pícaro como protagonis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pertenece a la clase social baja, casi un delincuent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es un vagabund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se mueve inducido por el hamb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busca la manera de mejorar de vi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carece de ide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7524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Lazarillo de Tor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utor anóni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crita en primera persona (y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orma autobiográfica: Narra la vida del protagonista desde su nacimiento hasta adul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irve a varios am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s amos lo maltratan y apenas le dan de co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y ideología es moralizante y pesim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7524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e5ffff"/>
                </a:solidFill>
                <a:latin typeface="Tahoma"/>
              </a:rPr>
              <a:t>Lazarillo de</a:t>
            </a: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4400" spc="-1" strike="noStrike">
                <a:solidFill>
                  <a:srgbClr val="e5ffff"/>
                </a:solidFill>
                <a:latin typeface="Tahoma"/>
              </a:rPr>
              <a:t>Tormes</a:t>
            </a:r>
            <a:br>
              <a:rPr sz="4400"/>
            </a:b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Literatura del Siglo de O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iteratura basada en la re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iferente a la literatura anteri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ibros de caballer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vela sentim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057400"/>
            <a:ext cx="792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342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95280" y="244440"/>
            <a:ext cx="6629400" cy="6296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5880" y="380880"/>
            <a:ext cx="2895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s meninas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5520" y="1981080"/>
            <a:ext cx="3048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ego de Velásqu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-55440"/>
            <a:ext cx="9144000" cy="6968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5702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Siglo de O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Renacimiento (Siglo XVI = 1500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Barroco (Siglo XVII = 1600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ech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1492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unificación de España con la caída de Gran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lón encuentra las Amér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blicación de la primera gramática española por Antonio de Nebr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1681 – La muerte de Calderón de la Bar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apogeo (punto más alto) con Miguel de Cervantes y Lope de Ve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Imagen:Antonio de Nebrija (A. Nogués) Madrid 01.jpg"/>
          <p:cNvPicPr/>
          <p:nvPr/>
        </p:nvPicPr>
        <p:blipFill>
          <a:blip r:embed="rId2"/>
          <a:stretch/>
        </p:blipFill>
        <p:spPr>
          <a:xfrm>
            <a:off x="7781760" y="0"/>
            <a:ext cx="136224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Imagen:Grammatica Nebrissensis.JPG"/>
          <p:cNvPicPr/>
          <p:nvPr/>
        </p:nvPicPr>
        <p:blipFill>
          <a:blip r:embed="rId3"/>
          <a:stretch/>
        </p:blipFill>
        <p:spPr>
          <a:xfrm>
            <a:off x="8207280" y="3200400"/>
            <a:ext cx="936720" cy="1447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04:15:57Z</dcterms:created>
  <dc:creator>lausd_user</dc:creator>
  <dc:description/>
  <dc:language>en-US</dc:language>
  <cp:lastModifiedBy>IRIBARNET</cp:lastModifiedBy>
  <dcterms:modified xsi:type="dcterms:W3CDTF">2008-11-20T05:56:06Z</dcterms:modified>
  <cp:revision>31</cp:revision>
  <dc:subject/>
  <dc:title>Siglo de Oro</dc:title>
</cp:coreProperties>
</file>